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E501-96FE-4F38-A645-21C1204273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in Industry, working wi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in Industry, working wi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nd 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revious work we considered the role of the blast furnace in extracting iron from its 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nd 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revious work we considered the role of the blast furnace in extracting iron from its 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teel – th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Mixing oxygen with silicon impur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Decomposition of limes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Adding these products toge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teel – th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Mixing oxygen with silicon impur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Decomposition of limes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Adding these products toge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 is a strong metal used in planes, replacement hip joints, bikes etc.  Two steps are used in its manufac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Convert titanium dioxide (ore) to titan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:  Displace the titanium using sodium or magnesi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 is a strong metal used in planes, replacement hip joints, bikes etc.  Two steps are used in its manufac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Convert titanium dioxide (ore) to titan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:  Displace the titanium using sodium or magnesi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a fairly reactive metal that doesn’t corrode due to forming a thin layer of aluminium oxide.  This explains why greenhouses don’t rust and don’t need to be pai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icker layer of aluminium oxide can be made artificially.  There are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move the natural layer by placing the aluminium in sodium hydrox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Use electrolysis on sulphuric acid with the aluminium as the positive electrode.  This is called anodi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a fairly reactive metal that doesn’t corrode due to forming a thin layer of aluminium oxide.  This explains why greenhouses don’t rust and don’t need to be pai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icker layer of aluminium oxide can be made artificially.  There are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move the natural layer by placing the aluminium in sodium hydrox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Use electrolysis on sulphuric acid with the aluminium as the positive electrode.  This is called anodi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containing silver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containing silver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A96A-E74C-4B66-8789-AAED372B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0688-ADEA-4799-8C64-69CDB4A7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EA7E-C3D9-488D-A722-3C007192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24C9-D6B8-4C82-BE01-ABC52690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9E21-A729-4368-B639-7A4365FA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80D2-508F-4EAC-AF79-619C9F63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AF95-D66E-4911-9952-60005D7C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EA78-32BB-4090-B340-060C6B64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356D-1CE5-4EC2-854B-BA2A5EB4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5508-2428-4EDC-AA1B-76457686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1BCE-981F-4AD5-82B8-D0FD99F0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6212-776B-47D8-8272-682E1ECC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5003-20F0-4CAC-A4AF-DAF8610C7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bbc.co.uk/london/whereyoulive/west/hounslow/eating.shtml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 in Industry, working with 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4436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ron and Ste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0" y="0"/>
            <a:ext cx="2217240" cy="2491920"/>
            <a:chOff x="0" y="0"/>
            <a:chExt cx="2217240" cy="2491920"/>
          </a:xfrm>
        </p:grpSpPr>
        <p:sp>
          <p:nvSpPr>
            <p:cNvPr id="51" name="Rectangle 4"/>
            <p:cNvSpPr/>
            <p:nvPr/>
          </p:nvSpPr>
          <p:spPr>
            <a:xfrm>
              <a:off x="0" y="0"/>
              <a:ext cx="2217240" cy="249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5"/>
            <p:cNvGrpSpPr/>
            <p:nvPr/>
          </p:nvGrpSpPr>
          <p:grpSpPr>
            <a:xfrm>
              <a:off x="193680" y="78480"/>
              <a:ext cx="1907280" cy="2370240"/>
              <a:chOff x="193680" y="78480"/>
              <a:chExt cx="1907280" cy="2370240"/>
            </a:xfrm>
          </p:grpSpPr>
          <p:pic>
            <p:nvPicPr>
              <p:cNvPr id="53" name="Picture 6" descr="Blast furnace 2"/>
              <p:cNvPicPr/>
              <p:nvPr/>
            </p:nvPicPr>
            <p:blipFill>
              <a:blip r:embed="rId1"/>
              <a:srcRect l="20777" t="0" r="28570" b="0"/>
              <a:stretch/>
            </p:blipFill>
            <p:spPr>
              <a:xfrm>
                <a:off x="417960" y="78480"/>
                <a:ext cx="1458360" cy="23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Rectangle 7"/>
              <p:cNvSpPr/>
              <p:nvPr/>
            </p:nvSpPr>
            <p:spPr>
              <a:xfrm>
                <a:off x="1801800" y="1648800"/>
                <a:ext cx="299160" cy="78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1614600" y="751320"/>
                <a:ext cx="298800" cy="78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9"/>
              <p:cNvSpPr/>
              <p:nvPr/>
            </p:nvSpPr>
            <p:spPr>
              <a:xfrm>
                <a:off x="1465200" y="78480"/>
                <a:ext cx="560880" cy="29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10"/>
              <p:cNvSpPr/>
              <p:nvPr/>
            </p:nvSpPr>
            <p:spPr>
              <a:xfrm>
                <a:off x="193680" y="1947960"/>
                <a:ext cx="261360" cy="261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Text Box 11"/>
          <p:cNvSpPr/>
          <p:nvPr/>
        </p:nvSpPr>
        <p:spPr>
          <a:xfrm>
            <a:off x="2268360" y="90792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99"/>
                </a:solidFill>
                <a:latin typeface="Comic Sans MS"/>
              </a:rPr>
              <a:t>In previous work we considered the role of the blast furnace in extracting iron from its 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scan"/>
          <p:cNvPicPr/>
          <p:nvPr/>
        </p:nvPicPr>
        <p:blipFill>
          <a:blip r:embed="rId2"/>
          <a:stretch/>
        </p:blipFill>
        <p:spPr>
          <a:xfrm>
            <a:off x="5648400" y="2276640"/>
            <a:ext cx="3495600" cy="388764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3"/>
          <p:cNvGrpSpPr/>
          <p:nvPr/>
        </p:nvGrpSpPr>
        <p:grpSpPr>
          <a:xfrm>
            <a:off x="0" y="2637000"/>
            <a:ext cx="8604360" cy="4060080"/>
            <a:chOff x="0" y="2637000"/>
            <a:chExt cx="8604360" cy="4060080"/>
          </a:xfrm>
        </p:grpSpPr>
        <p:sp>
          <p:nvSpPr>
            <p:cNvPr id="61" name="Text Box 14"/>
            <p:cNvSpPr/>
            <p:nvPr/>
          </p:nvSpPr>
          <p:spPr>
            <a:xfrm>
              <a:off x="0" y="2637000"/>
              <a:ext cx="572436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bbe0e3"/>
                  </a:solidFill>
                  <a:latin typeface="Comic Sans MS"/>
                </a:rPr>
                <a:t>The iron contains roughly 5% carbon and different metals and is very ________.  In order to reduce these impurities and convert the iron into _________ the molten iron is transferred into another furnace where it is mixed with recycled scrap iron and pure ___________.  The oxygen reacts with the metal impurities to form ________ oxides.  Calcium carbonate is also added to remove some of the acidic oxides as _______ when the furnace is tilte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539640" y="6237360"/>
              <a:ext cx="806472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Words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– slag, brittle, steel, oxygen, acid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238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Making steel – the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1)  Mixing oxygen with silicon impur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0" y="1916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99"/>
                </a:solidFill>
                <a:latin typeface="Comic Sans MS"/>
              </a:rPr>
              <a:t>2)  Decomposition of limest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314172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3)  Adding these products toge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6"/>
          <p:cNvGrpSpPr/>
          <p:nvPr/>
        </p:nvGrpSpPr>
        <p:grpSpPr>
          <a:xfrm>
            <a:off x="826920" y="1341360"/>
            <a:ext cx="7561440" cy="1015920"/>
            <a:chOff x="826920" y="1341360"/>
            <a:chExt cx="7561440" cy="1015920"/>
          </a:xfrm>
        </p:grpSpPr>
        <p:sp>
          <p:nvSpPr>
            <p:cNvPr id="68" name="Text Box 7"/>
            <p:cNvSpPr/>
            <p:nvPr/>
          </p:nvSpPr>
          <p:spPr>
            <a:xfrm>
              <a:off x="826920" y="1341360"/>
              <a:ext cx="75614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ilicon + oxygen                Silicon 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8"/>
            <p:cNvSpPr/>
            <p:nvPr/>
          </p:nvSpPr>
          <p:spPr>
            <a:xfrm>
              <a:off x="4211640" y="155736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9"/>
          <p:cNvGrpSpPr/>
          <p:nvPr/>
        </p:nvGrpSpPr>
        <p:grpSpPr>
          <a:xfrm>
            <a:off x="324000" y="2492280"/>
            <a:ext cx="8569080" cy="459720"/>
            <a:chOff x="324000" y="2492280"/>
            <a:chExt cx="8569080" cy="459720"/>
          </a:xfrm>
        </p:grpSpPr>
        <p:sp>
          <p:nvSpPr>
            <p:cNvPr id="71" name="Text Box 10"/>
            <p:cNvSpPr/>
            <p:nvPr/>
          </p:nvSpPr>
          <p:spPr>
            <a:xfrm>
              <a:off x="324000" y="2492280"/>
              <a:ext cx="856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carbonate                calcium oxide + carbon di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1"/>
            <p:cNvSpPr/>
            <p:nvPr/>
          </p:nvSpPr>
          <p:spPr>
            <a:xfrm>
              <a:off x="3132000" y="270828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2"/>
          <p:cNvGrpSpPr/>
          <p:nvPr/>
        </p:nvGrpSpPr>
        <p:grpSpPr>
          <a:xfrm>
            <a:off x="611280" y="3718080"/>
            <a:ext cx="8064360" cy="459720"/>
            <a:chOff x="611280" y="3718080"/>
            <a:chExt cx="8064360" cy="459720"/>
          </a:xfrm>
        </p:grpSpPr>
        <p:sp>
          <p:nvSpPr>
            <p:cNvPr id="74" name="Text Box 13"/>
            <p:cNvSpPr/>
            <p:nvPr/>
          </p:nvSpPr>
          <p:spPr>
            <a:xfrm>
              <a:off x="611280" y="3718080"/>
              <a:ext cx="80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ilicon oxide + calcium oxide                 calcium silic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4"/>
            <p:cNvSpPr/>
            <p:nvPr/>
          </p:nvSpPr>
          <p:spPr>
            <a:xfrm>
              <a:off x="4932360" y="393372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5"/>
          <p:cNvGrpSpPr/>
          <p:nvPr/>
        </p:nvGrpSpPr>
        <p:grpSpPr>
          <a:xfrm>
            <a:off x="0" y="4437000"/>
            <a:ext cx="2916360" cy="2424960"/>
            <a:chOff x="0" y="4437000"/>
            <a:chExt cx="2916360" cy="2424960"/>
          </a:xfrm>
        </p:grpSpPr>
        <p:pic>
          <p:nvPicPr>
            <p:cNvPr id="77" name="Picture 16" descr="Firmer chisel"/>
            <p:cNvPicPr/>
            <p:nvPr/>
          </p:nvPicPr>
          <p:blipFill>
            <a:blip r:embed="rId1"/>
            <a:stretch/>
          </p:blipFill>
          <p:spPr>
            <a:xfrm>
              <a:off x="324000" y="4437000"/>
              <a:ext cx="17269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7"/>
            <p:cNvSpPr/>
            <p:nvPr/>
          </p:nvSpPr>
          <p:spPr>
            <a:xfrm>
              <a:off x="0" y="5670720"/>
              <a:ext cx="291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ffff"/>
                  </a:solidFill>
                  <a:latin typeface="Comic Sans MS"/>
                </a:rPr>
                <a:t>Steel with a high carbon content is strong but brit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8"/>
          <p:cNvGrpSpPr/>
          <p:nvPr/>
        </p:nvGrpSpPr>
        <p:grpSpPr>
          <a:xfrm>
            <a:off x="3132000" y="4437000"/>
            <a:ext cx="2880000" cy="2424960"/>
            <a:chOff x="3132000" y="4437000"/>
            <a:chExt cx="2880000" cy="2424960"/>
          </a:xfrm>
        </p:grpSpPr>
        <p:pic>
          <p:nvPicPr>
            <p:cNvPr id="80" name="Picture 19" descr="Picture of vehicle"/>
            <p:cNvPicPr/>
            <p:nvPr/>
          </p:nvPicPr>
          <p:blipFill>
            <a:blip r:embed="rId2"/>
            <a:stretch/>
          </p:blipFill>
          <p:spPr>
            <a:xfrm>
              <a:off x="3708360" y="4437000"/>
              <a:ext cx="151308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20"/>
            <p:cNvSpPr/>
            <p:nvPr/>
          </p:nvSpPr>
          <p:spPr>
            <a:xfrm>
              <a:off x="3132000" y="5670720"/>
              <a:ext cx="288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Comic Sans MS"/>
                </a:rPr>
                <a:t>Steel with a low carbon content is easily shap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21"/>
          <p:cNvGrpSpPr/>
          <p:nvPr/>
        </p:nvGrpSpPr>
        <p:grpSpPr>
          <a:xfrm>
            <a:off x="6012000" y="4437000"/>
            <a:ext cx="3132000" cy="2781000"/>
            <a:chOff x="6012000" y="4437000"/>
            <a:chExt cx="3132000" cy="2781000"/>
          </a:xfrm>
        </p:grpSpPr>
        <p:pic>
          <p:nvPicPr>
            <p:cNvPr id="83" name="Picture 22" descr="Eating Out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877080" y="4437000"/>
              <a:ext cx="187164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23"/>
            <p:cNvSpPr/>
            <p:nvPr/>
          </p:nvSpPr>
          <p:spPr>
            <a:xfrm>
              <a:off x="6012000" y="5661000"/>
              <a:ext cx="3132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Steel with chromium and nickel is called stainless ste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Titan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69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Titanium is a strong metal used in planes, replacement hip joints, bikes etc.  Two steps are used in its manufa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0" y="1773360"/>
            <a:ext cx="91440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tep 1: Convert titanium dioxide (ore) to titanium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0" y="2708280"/>
            <a:ext cx="91440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tep 2:  Displace the titanium using sodium or magnes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6"/>
          <p:cNvGrpSpPr/>
          <p:nvPr/>
        </p:nvGrpSpPr>
        <p:grpSpPr>
          <a:xfrm>
            <a:off x="0" y="3357720"/>
            <a:ext cx="9144000" cy="825480"/>
            <a:chOff x="0" y="3357720"/>
            <a:chExt cx="9144000" cy="825480"/>
          </a:xfrm>
        </p:grpSpPr>
        <p:sp>
          <p:nvSpPr>
            <p:cNvPr id="90" name="Text Box 7"/>
            <p:cNvSpPr/>
            <p:nvPr/>
          </p:nvSpPr>
          <p:spPr>
            <a:xfrm>
              <a:off x="0" y="33577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itanium chloride + sodium               titanium + sodium chlor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8"/>
            <p:cNvSpPr/>
            <p:nvPr/>
          </p:nvSpPr>
          <p:spPr>
            <a:xfrm>
              <a:off x="4067280" y="3573720"/>
              <a:ext cx="1152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9"/>
          <p:cNvGrpSpPr/>
          <p:nvPr/>
        </p:nvGrpSpPr>
        <p:grpSpPr>
          <a:xfrm>
            <a:off x="468360" y="4005360"/>
            <a:ext cx="4103640" cy="2721960"/>
            <a:chOff x="468360" y="4005360"/>
            <a:chExt cx="4103640" cy="2721960"/>
          </a:xfrm>
        </p:grpSpPr>
        <p:sp>
          <p:nvSpPr>
            <p:cNvPr id="93" name="Text Box 10"/>
            <p:cNvSpPr/>
            <p:nvPr/>
          </p:nvSpPr>
          <p:spPr>
            <a:xfrm>
              <a:off x="468360" y="4438800"/>
              <a:ext cx="4103640" cy="22885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In this reaction the titanium is displaced my a more reactive metal.  This reaction is done in an argon atmosphere to avoid any further reac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1"/>
            <p:cNvSpPr/>
            <p:nvPr/>
          </p:nvSpPr>
          <p:spPr>
            <a:xfrm>
              <a:off x="1692360" y="4005360"/>
              <a:ext cx="1079280" cy="5047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2"/>
          <p:cNvGrpSpPr/>
          <p:nvPr/>
        </p:nvGrpSpPr>
        <p:grpSpPr>
          <a:xfrm>
            <a:off x="4932360" y="4005360"/>
            <a:ext cx="4067280" cy="2498760"/>
            <a:chOff x="4932360" y="4005360"/>
            <a:chExt cx="4067280" cy="2498760"/>
          </a:xfrm>
        </p:grpSpPr>
        <p:sp>
          <p:nvSpPr>
            <p:cNvPr id="96" name="Text Box 13"/>
            <p:cNvSpPr/>
            <p:nvPr/>
          </p:nvSpPr>
          <p:spPr>
            <a:xfrm>
              <a:off x="4932360" y="4581360"/>
              <a:ext cx="4067280" cy="19227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itanium ions have a charge of 4+ and gain four electrons to become titanium atoms.  This is a reduction reac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4"/>
            <p:cNvSpPr/>
            <p:nvPr/>
          </p:nvSpPr>
          <p:spPr>
            <a:xfrm>
              <a:off x="5435640" y="4005360"/>
              <a:ext cx="1008000" cy="5760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152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Alumin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765000"/>
            <a:ext cx="70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Aluminium is a fairly reactive metal that doesn’t corrode due to forming a thin layer of aluminium oxide.  This explains why greenhouses don’t rust and don’t need to be pai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greenhouse"/>
          <p:cNvPicPr/>
          <p:nvPr/>
        </p:nvPicPr>
        <p:blipFill>
          <a:blip r:embed="rId1"/>
          <a:stretch/>
        </p:blipFill>
        <p:spPr>
          <a:xfrm>
            <a:off x="7093080" y="765000"/>
            <a:ext cx="2050920" cy="1538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0" y="2565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99"/>
                </a:solidFill>
                <a:latin typeface="Comic Sans MS"/>
              </a:rPr>
              <a:t>A thicker layer of aluminium oxide can be made artificially.  There are two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0" y="3500280"/>
            <a:ext cx="44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1)  Remove the natural layer by placing the aluminium in sodium hydrox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0" y="4797360"/>
            <a:ext cx="39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Comic Sans MS"/>
              </a:rPr>
              <a:t>2)  Use electrolysis on sulphuric acid with the aluminium as the positive electrode.  This is called anodi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8"/>
          <p:cNvGrpSpPr/>
          <p:nvPr/>
        </p:nvGrpSpPr>
        <p:grpSpPr>
          <a:xfrm>
            <a:off x="4500720" y="3213000"/>
            <a:ext cx="4643280" cy="3645000"/>
            <a:chOff x="4500720" y="3213000"/>
            <a:chExt cx="4643280" cy="3645000"/>
          </a:xfrm>
        </p:grpSpPr>
        <p:sp>
          <p:nvSpPr>
            <p:cNvPr id="105" name="Rectangle 9"/>
            <p:cNvSpPr/>
            <p:nvPr/>
          </p:nvSpPr>
          <p:spPr>
            <a:xfrm>
              <a:off x="4500720" y="3213000"/>
              <a:ext cx="4643280" cy="364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10" descr="BEAK_LF"/>
            <p:cNvPicPr/>
            <p:nvPr/>
          </p:nvPicPr>
          <p:blipFill>
            <a:blip r:embed="rId2"/>
            <a:stretch/>
          </p:blipFill>
          <p:spPr>
            <a:xfrm>
              <a:off x="5508720" y="3500280"/>
              <a:ext cx="2573280" cy="32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11"/>
            <p:cNvSpPr/>
            <p:nvPr/>
          </p:nvSpPr>
          <p:spPr>
            <a:xfrm>
              <a:off x="6012000" y="4221000"/>
              <a:ext cx="288720" cy="172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7451640" y="4221000"/>
              <a:ext cx="289080" cy="1729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V="1">
              <a:off x="6156360" y="3428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6156360" y="34290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7020000" y="3429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7596360" y="3429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6804000" y="3284640"/>
              <a:ext cx="0" cy="28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6948360" y="3357720"/>
              <a:ext cx="71640" cy="14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9"/>
            <p:cNvSpPr/>
            <p:nvPr/>
          </p:nvSpPr>
          <p:spPr>
            <a:xfrm>
              <a:off x="6012000" y="4292640"/>
              <a:ext cx="28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+++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0"/>
            <p:cNvSpPr/>
            <p:nvPr/>
          </p:nvSpPr>
          <p:spPr>
            <a:xfrm>
              <a:off x="7451640" y="4292640"/>
              <a:ext cx="289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---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1"/>
            <p:cNvSpPr/>
            <p:nvPr/>
          </p:nvSpPr>
          <p:spPr>
            <a:xfrm>
              <a:off x="6012000" y="6093000"/>
              <a:ext cx="172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O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2"/>
            <p:cNvSpPr/>
            <p:nvPr/>
          </p:nvSpPr>
          <p:spPr>
            <a:xfrm>
              <a:off x="4716360" y="5013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5148360" y="5229360"/>
              <a:ext cx="79200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opl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765000"/>
            <a:ext cx="9144000" cy="609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1984320" y="884160"/>
            <a:ext cx="5068800" cy="5735880"/>
            <a:chOff x="1984320" y="884160"/>
            <a:chExt cx="5068800" cy="5735880"/>
          </a:xfrm>
        </p:grpSpPr>
        <p:pic>
          <p:nvPicPr>
            <p:cNvPr id="123" name="Picture 5" descr="BEAK_LF"/>
            <p:cNvPicPr/>
            <p:nvPr/>
          </p:nvPicPr>
          <p:blipFill>
            <a:blip r:embed="rId1"/>
            <a:stretch/>
          </p:blipFill>
          <p:spPr>
            <a:xfrm>
              <a:off x="1984320" y="1246320"/>
              <a:ext cx="5068800" cy="537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6"/>
            <p:cNvSpPr/>
            <p:nvPr/>
          </p:nvSpPr>
          <p:spPr>
            <a:xfrm>
              <a:off x="2976480" y="2449440"/>
              <a:ext cx="568440" cy="2890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7"/>
            <p:cNvSpPr/>
            <p:nvPr/>
          </p:nvSpPr>
          <p:spPr>
            <a:xfrm>
              <a:off x="5796000" y="2492280"/>
              <a:ext cx="568440" cy="2890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V="1">
              <a:off x="3260880" y="1125000"/>
              <a:ext cx="0" cy="14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>
              <a:off x="3260880" y="112536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4960800" y="1125360"/>
              <a:ext cx="11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>
              <a:off x="6095880" y="1125360"/>
              <a:ext cx="0" cy="14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>
              <a:off x="4535640" y="884160"/>
              <a:ext cx="0" cy="4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4821120" y="1006560"/>
              <a:ext cx="139680" cy="239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2976480" y="2570040"/>
              <a:ext cx="5684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"/>
                </a:rPr>
                <a:t>+++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5"/>
            <p:cNvSpPr/>
            <p:nvPr/>
          </p:nvSpPr>
          <p:spPr>
            <a:xfrm>
              <a:off x="5811840" y="2570040"/>
              <a:ext cx="568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"/>
                </a:rPr>
                <a:t>---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6"/>
          <p:cNvSpPr/>
          <p:nvPr/>
        </p:nvSpPr>
        <p:spPr>
          <a:xfrm>
            <a:off x="2976480" y="5578560"/>
            <a:ext cx="34038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lution containing silver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7"/>
          <p:cNvGrpSpPr/>
          <p:nvPr/>
        </p:nvGrpSpPr>
        <p:grpSpPr>
          <a:xfrm>
            <a:off x="179280" y="2637000"/>
            <a:ext cx="2880000" cy="1439640"/>
            <a:chOff x="179280" y="2637000"/>
            <a:chExt cx="2880000" cy="1439640"/>
          </a:xfrm>
        </p:grpSpPr>
        <p:sp>
          <p:nvSpPr>
            <p:cNvPr id="136" name="Text Box 18"/>
            <p:cNvSpPr/>
            <p:nvPr/>
          </p:nvSpPr>
          <p:spPr>
            <a:xfrm>
              <a:off x="179280" y="2637000"/>
              <a:ext cx="1871640" cy="82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ilver electr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1547640" y="3500280"/>
              <a:ext cx="1511640" cy="576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20"/>
          <p:cNvGrpSpPr/>
          <p:nvPr/>
        </p:nvGrpSpPr>
        <p:grpSpPr>
          <a:xfrm>
            <a:off x="6227280" y="2709720"/>
            <a:ext cx="2808720" cy="1366920"/>
            <a:chOff x="6227280" y="2709720"/>
            <a:chExt cx="2808720" cy="1366920"/>
          </a:xfrm>
        </p:grpSpPr>
        <p:sp>
          <p:nvSpPr>
            <p:cNvPr id="139" name="Text Box 21"/>
            <p:cNvSpPr/>
            <p:nvPr/>
          </p:nvSpPr>
          <p:spPr>
            <a:xfrm>
              <a:off x="7164360" y="2709720"/>
              <a:ext cx="1871640" cy="82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Object to be pl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2"/>
            <p:cNvSpPr/>
            <p:nvPr/>
          </p:nvSpPr>
          <p:spPr>
            <a:xfrm flipH="1">
              <a:off x="6227280" y="3573360"/>
              <a:ext cx="1513080" cy="503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2T22:21:04Z</dcterms:created>
  <dc:creator>CIC1</dc:creator>
  <dc:description/>
  <dc:language>en-US</dc:language>
  <cp:lastModifiedBy>RomaK</cp:lastModifiedBy>
  <dcterms:modified xsi:type="dcterms:W3CDTF">2015-09-02T05:57:37Z</dcterms:modified>
  <cp:revision>6</cp:revision>
  <dc:subject/>
  <dc:title>Metals in Industry, working with metals</dc:title>
</cp:coreProperties>
</file>